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387266"/>
        <c:axId val="3298575"/>
      </c:barChart>
      <c:catAx>
        <c:axId val="45387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8575"/>
        <c:crosses val="autoZero"/>
        <c:auto val="1"/>
        <c:lblAlgn val="ctr"/>
        <c:lblOffset val="100"/>
        <c:noMultiLvlLbl val="0"/>
      </c:catAx>
      <c:valAx>
        <c:axId val="3298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87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81CE-8B3E-4ACD-A667-7D64C813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3D2-2EF1-4E7E-8E57-8F40C066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6A6-6747-42CC-B811-F6FD1DB5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C594-5A44-4EFF-B9D2-E5D40BB2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173-93EA-4E5F-AB6E-4514089D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C29C-6AC5-4271-9205-EAA649F5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7E9B-2F49-4FEF-A6B0-3DE42595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B11F-299B-4B93-BCA9-C57ECE92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674A-D370-479E-97AB-40BF64DF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833-16A5-4BDC-808C-A7216841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C9A7-301F-42D5-8D6F-9E9E30DA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2E83-6016-40F6-85F6-03375C30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189B6-3E0F-4E7D-A155-0CDD7A5D4D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