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1804"/>
        <c:axId val="77117896"/>
      </c:barChart>
      <c:catAx>
        <c:axId val="9141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17896"/>
        <c:crosses val="autoZero"/>
        <c:auto val="1"/>
        <c:lblAlgn val="ctr"/>
        <c:lblOffset val="100"/>
        <c:noMultiLvlLbl val="0"/>
      </c:catAx>
      <c:valAx>
        <c:axId val="7711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1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7A4-4C74-4B37-B715-5883F733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AA8-82C8-417C-96AD-9BAF45B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71B-B7F5-4E52-B394-2E5B7B6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42B-3976-4A0C-B323-5D4D29FF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7E4-F3CC-46F7-8261-0C071717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E6A-C278-40BA-958B-C006EAE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62F-49E2-4262-9C46-91283EC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C63-F2D6-496A-99EE-8A8A6B6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9AB-DEB6-4F26-9731-1600E2E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8FD-E8C8-4DFC-A0F0-517DAC4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C1F-4349-4760-BD4E-632454F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A75-AFE0-4C2A-A402-DA92CED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B8FC-0F91-46B2-90A1-B1DE370080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